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6C12F-3717-4088-A2DE-4CC671FC0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9C3CD-D147-4661-A556-8CDDE91E5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7B016-3640-4057-ADB4-47F66AF0F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B3031-E17C-4C4F-AD6C-C3C003805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88718-EBB9-4BED-9981-6A7996E402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6BE11-53E7-40D6-9239-BCFBEA4AB3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4C4A6-24DB-430B-A914-01C2E51F3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8C472-0C59-4073-9934-069E35996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BE692-A0F7-4419-9CF1-E24FB4568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64088-B084-4318-B00D-5624FCFC08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909C1-F83A-4ADD-8F5B-8691DDDA5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62010-20FB-4797-92CD-E1F392D85A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01AA2-364B-42B9-A48B-4F66620BF5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957BA-4782-4E89-AE77-0C69426549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DC4F3-03E7-4D3C-B5CE-3A62CA8EBC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EC37E5-C3AA-4892-BF94-FF9A25575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68A811-B7C1-49A5-9657-EB18A03BD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1371DA-CEB4-4E1C-8D5A-2F8074197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E95918-6381-4D53-A0D8-FAF3E2FF9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A5A214-F7EC-48AC-AF30-69D565B74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E641CF-BC94-4806-BB1C-01070A855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0F20F6-B939-4280-8F04-A053CA0F0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F2F27-27A8-4907-9E01-419698C2BE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489216-6C33-4E8D-8944-FC55FE11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18E150-6B38-400F-94CF-4BC169DC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D62DA5-F69C-401F-98E9-C31448927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F8E365-DEF6-4B3A-A6A0-2638A0B6F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ACFFF4-30F6-4980-95C1-04D14A02A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DEC73-AD16-4EB1-8001-99DC912FC1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F4646-EA2B-45C8-81D1-840C08E0C8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E2DF1-2355-4104-9E16-18439DC0BF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212EC-A13C-491F-B8ED-50B4FCA92B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717CA-D035-491B-BF09-9ADCD66CAB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EC7DC-6A4E-4758-A8D6-D7999F5C0B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59E30-C2A5-40BB-B43F-ABBEC4322B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A0934-43B4-40E9-9F4F-6EB426B372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2D0BD-658B-413C-A03C-A50C3BB780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estgard Multirule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6201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“multi-rule” system developed b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. James O. Westgard based on statistical concep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ombination of decision criteria 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les to assess if a system is in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when at least 2 levels of contro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run with the examination ru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not use with only one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9" descr="westgard_lecturing"/>
          <p:cNvPicPr/>
          <p:nvPr/>
        </p:nvPicPr>
        <p:blipFill>
          <a:blip r:embed="rId1"/>
          <a:stretch/>
        </p:blipFill>
        <p:spPr>
          <a:xfrm>
            <a:off x="2971800" y="4191120"/>
            <a:ext cx="3657600" cy="2368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0"/>
          <p:cNvSpPr/>
          <p:nvPr/>
        </p:nvSpPr>
        <p:spPr>
          <a:xfrm>
            <a:off x="6095880" y="4495680"/>
            <a:ext cx="22100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West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C4272-1E32-4E70-894E-150CF9ED22C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3796F-5612-4495-A5D1-8F867D7A6CC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nswers for activ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1, 22, 24, 26, 27, 30, 31, 33, 34, 36-44 – in contro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3, 28, 29 –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5 -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2 – 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5 -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4CE20-05BC-4956-9F7B-53DD42B67E8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Multirule System Titles</a:t>
            </a: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657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1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600" y="1599840"/>
            <a:ext cx="419112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4419720" y="16002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ed when 2 levels of control material are analyzed per r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7524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j0082253"/>
          <p:cNvPicPr/>
          <p:nvPr/>
        </p:nvPicPr>
        <p:blipFill>
          <a:blip r:embed="rId1"/>
          <a:stretch/>
        </p:blipFill>
        <p:spPr>
          <a:xfrm>
            <a:off x="6019920" y="3124080"/>
            <a:ext cx="2501640" cy="3048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51C77-52E0-4202-B2DF-36634CF9711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ARNING RUL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not cause for rejecting a ru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of two control results falls outside ±2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erts technologist to possible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hen evaluate the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39BF2-DB21-4531-8E87-DBA69406B2B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ative QC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2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consecutive control values for the same level fall outside of ±2SD in the same directio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controls in the same run exceed ±2SD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results cannot be repor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5BEF0-A61A-4617-8475-54CB36F2F91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R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control exceeds the mean by –2SD, and the other control exceeds the mean by +2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ange between the two results will therefore exceed 4 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ndom error has occurred, test run must be rejec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CBE8E-E3C8-4394-8636-B11EB5E9D7A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4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 consecutive QC results for one level of control are outside ±1SD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consecutive results that are outside ±1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D6632-1A67-4900-8A58-A0C84D47B37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0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n consecutive QC results for one level of control are on one side of the mea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five consecutive results that are on the same side of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47242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907CD-65A4-4E5F-9ED3-4AA391830AF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Westgard Multirule QC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7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41E46-8BD1-4678-8A5C-BFD55404685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Verdana"/>
              </a:rPr>
              <a:t>Activity</a:t>
            </a:r>
            <a:br>
              <a:rPr sz="3800"/>
            </a:b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2392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Verdana"/>
              </a:rPr>
              <a:t>Using the Westgard Multirule System, describe the control values for each day in the following slide.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B1F9B-7232-4E3F-9DDA-A43A25537F5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Robin Barteluk</cp:lastModifiedBy>
  <dcterms:modified xsi:type="dcterms:W3CDTF">2008-11-27T20:41:53Z</dcterms:modified>
  <cp:revision>4</cp:revision>
  <dc:subject/>
  <dc:title>Westgard Multirule System</dc:title>
</cp:coreProperties>
</file>